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FDB6-B7E9-4E39-A5A5-83FD1A2623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91DB-4C5C-47C9-99F4-0F659D76F3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553F-DEE6-40D1-B13A-143C85BE30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1C4E-F3E5-40B2-B6C8-06A71AC613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FB56-9CA6-49AF-B51F-A7EBA3BD7B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0116-0471-4650-AB55-550ED213E3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0F60-88A4-48FE-9A6B-7F96D41E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E6EB-E7C9-4C0E-BA51-B064AD89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CDE9-BD5E-4A09-9BEA-6D6AB95E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164D-6C3D-42F5-A7B9-9483BA88C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B35F-DA7A-4016-8E90-547167A8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D2F5-021B-4FBF-AFF2-0EC5B326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BAF5-A76B-4A35-9378-1820C01F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0EDE-20E2-4D25-8D01-30FBA9CC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CA96-097D-4738-A44A-99476A25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C166-9EF3-4B5B-8759-D03776EE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831F-1336-40C1-97CA-50810D1A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D4C3-30A9-4247-AA7C-B7A7DBD3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B121-220E-4819-9090-F739AFAB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BB77-0FFB-4DA0-8A25-FCFD698C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D407-0696-46C8-AB14-399203E5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1A8D-0B18-4C35-B889-BD4777B5F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15A0-6F6F-4185-B328-2EFD51A7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E6F0-668B-44C8-B212-577B71C1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CBAA-2EC2-4645-90C1-C03E9A60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3F4D-8966-4F21-B9E8-CF8194DC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25A9-CD22-4F1A-95F5-B5D03CC2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0228-A7D2-463F-9081-F716B34B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F5A1-4E1D-4E20-A583-28444C53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4429-75B7-4CC8-AE33-EE5D0D96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FBDC-6150-4798-B910-8170E715C645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7145-4BFB-433E-8C85-F92F8039D9DB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7308720" y="26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Text Box 6" descr=""/>
          <p:cNvPicPr/>
          <p:nvPr/>
        </p:nvPicPr>
        <p:blipFill>
          <a:blip r:embed="rId1"/>
          <a:stretch/>
        </p:blipFill>
        <p:spPr>
          <a:xfrm>
            <a:off x="347760" y="1487520"/>
            <a:ext cx="8607240" cy="3968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Знак"/>
          <p:cNvPicPr/>
          <p:nvPr/>
        </p:nvPicPr>
        <p:blipFill>
          <a:blip r:embed="rId2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39280" y="404280"/>
            <a:ext cx="828036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МИ-26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яжёлый военно-транспортный вертолё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предназначе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для обеспечения боевых действий  и перевозки десанта и грузов. Максимальная  скорость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295 км/ч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Динамический потолок −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4600 м,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ксимальная взлётная масса −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56 000 кг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ксимальная полезная нагрузка −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20 000 кг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3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7" descr="Описание: C:\Documents and Settings\Fadzeyeu_V\Рабочий стол\Допризывная подготовка изменение 4 раздела\image-0-02-05-20ff6c4978148974ea34c408c046f19a5e89a62eeadcf545928103bca3fbf413-V.jpg"/>
          <p:cNvPicPr/>
          <p:nvPr/>
        </p:nvPicPr>
        <p:blipFill>
          <a:blip r:embed="rId2"/>
          <a:stretch/>
        </p:blipFill>
        <p:spPr>
          <a:xfrm>
            <a:off x="1692360" y="3070080"/>
            <a:ext cx="5975280" cy="353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23640" y="1916280"/>
            <a:ext cx="85770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Century Gothic"/>
              </a:rPr>
              <a:t>СРЕДСТВА ПРОТИВОВОЗДУШНОЙ ОБОРОНЫ</a:t>
            </a:r>
            <a:endParaRPr b="0" lang="en-US" sz="5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6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94920" y="333000"/>
            <a:ext cx="8497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ЗЕНИТНЫЙ РАКЕТНЫЙ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КОМПЛЕКС «ОСА»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стоит из боевой и транспортно-заряжающей машин. Он является мобильным, всепогодным средством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предназначен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ля поражения самолетов, вертолетов, аэродинамических беспилотных летательных аппаратов в сложной воздушной и помеховой обстановке. Боевая машина  способна вести разведку воздушного противника в движении и с места, обеспечивает обнаружение цели, автономный пуск шести ракет, их хранение и транспортировку.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ранспортно-заряжающая машина содержи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12 ракет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поражения цели составляет по дальности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т 1500 м до 10300 м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а по высоте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т 25 м до 5 000 м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Боевой расчет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человек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8" name="Picture 4" descr="Знак"/>
          <p:cNvPicPr/>
          <p:nvPr/>
        </p:nvPicPr>
        <p:blipFill>
          <a:blip r:embed="rId1"/>
          <a:stretch/>
        </p:blipFill>
        <p:spPr>
          <a:xfrm>
            <a:off x="109440" y="260280"/>
            <a:ext cx="1096920" cy="1100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Объект 1"/>
          <p:cNvGraphicFramePr/>
          <p:nvPr/>
        </p:nvGraphicFramePr>
        <p:xfrm>
          <a:off x="395280" y="3429000"/>
          <a:ext cx="495468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3429000"/>
                    <a:ext cx="495468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24000" y="189000"/>
            <a:ext cx="8627760" cy="549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ЗЕНИТНЫЙ РАКЕТНЫЙ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КОМПЛЕКС «БУК»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свое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остав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меет: командный пункт, станцию обнаружения целей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6 самоходных огневых установок и 3 пускозаряжающие установки. Все боевые средства комплекса размещены на самоходных гусеничных шасси высокой проходимости. Самоходная огневая установка имеет радиолокационную станцию и обеспечивает обнаружение цели, автономный пус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4 ракет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х хранение, транспортировку и предстартовый контроль.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ускозаряжающая установка содержи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8 ракет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з них 4 размещаются на балках пускового устройства и готовы к пуску, а остальные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 находятся на транспортных ложементах. Зона поражения цели составляет по дальности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т 3000 м до 30 000 м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а по высоте −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т 25 м до 18 000 м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2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36" descr="Самоходная огневая установка зенитного ракетного комплекса «Бук»"/>
          <p:cNvPicPr/>
          <p:nvPr/>
        </p:nvPicPr>
        <p:blipFill>
          <a:blip r:embed="rId2"/>
          <a:stretch/>
        </p:blipFill>
        <p:spPr>
          <a:xfrm>
            <a:off x="304920" y="3970440"/>
            <a:ext cx="5140080" cy="280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8000" y="259920"/>
            <a:ext cx="8856720" cy="39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ЗЕНИТНЫЙ РАКЕТНЫЙ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КОМПЛЕКС С-300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пособен надёжно прикрыть с воздуха административно-политические и промышленно-экономические районы страны, группировки войск и другие важные объекты. Он имеет несколько модификаций 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может включать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ногоканальную станцию наведения ракет, пусковые установки, пускозаряжающие установки, командный пункт и радиолокационную станцию. Комплекс обладает высокой помехозащищённостью и способен одновременно обстреливать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до 18 целей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 наведением на каждую цель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до 2−4 ракет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н способен гарантированно поразить баллистические цели на дальностях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до 40 000 м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 аэродинамические −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до 100 000 м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аксимальная высота поражения баллистических целей составляет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25 000 м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 аэродинамических –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30 000 м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РК С-300 способен уничтожить все современные воздушные цели.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5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31" descr=""/>
          <p:cNvPicPr/>
          <p:nvPr/>
        </p:nvPicPr>
        <p:blipFill>
          <a:blip r:embed="rId2"/>
          <a:stretch/>
        </p:blipFill>
        <p:spPr>
          <a:xfrm>
            <a:off x="1116000" y="4098960"/>
            <a:ext cx="6985080" cy="263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24000" y="196920"/>
            <a:ext cx="8627760" cy="54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ЗЕНИТНЫЙ РАКЕТНЫЙ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КОМПЛЕКС «ТОР-М2»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предназначе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для поражения самолетов, вертолетов, аэродинамических беспилотных летательных аппаратов, управляемых ракет и бомб, других элементов высокоточного оружия в сложной воздушной и помеховой обстановке. Боевая машина имеет в своем составе современную радиолокационную станцию и обеспечивает обнаружение цели, автономный пус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8 ракет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х хранение, транспортировку и предстартовый контроль.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поражения цели составляет по дальност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т 1000 м до 12000 м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а по высоте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от 10 м до 10 000 м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оевая машина способна одновременно вести стрельбу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по 4 воздушным целям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оевой расчет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3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еловека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8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6" descr="Описание: ТОР-М2"/>
          <p:cNvPicPr/>
          <p:nvPr/>
        </p:nvPicPr>
        <p:blipFill>
          <a:blip r:embed="rId2"/>
          <a:srcRect l="18283" t="10386" r="20320" b="4567"/>
          <a:stretch/>
        </p:blipFill>
        <p:spPr>
          <a:xfrm>
            <a:off x="324000" y="3233880"/>
            <a:ext cx="4392360" cy="327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628640"/>
            <a:ext cx="84247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50"/>
                </a:solidFill>
                <a:latin typeface="Arial"/>
                <a:ea typeface="Arial"/>
              </a:rPr>
              <a:t>САМОЛЁТЫ </a:t>
            </a:r>
            <a:endParaRPr b="0" lang="en-US" sz="66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50"/>
                </a:solidFill>
                <a:latin typeface="Arial"/>
                <a:ea typeface="Arial"/>
              </a:rPr>
              <a:t>И </a:t>
            </a:r>
            <a:endParaRPr b="0" lang="en-US" sz="66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50"/>
                </a:solidFill>
                <a:latin typeface="Arial"/>
                <a:ea typeface="Arial"/>
              </a:rPr>
              <a:t>ВЕРТОЛЁТЫ</a:t>
            </a:r>
            <a:endParaRPr b="0" lang="en-US" sz="6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0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24000" y="188640"/>
            <a:ext cx="8496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МИГ-29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лёгкий фронтовой истребитель авиации ВВС и войск ПВО РБ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Истребител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это боевой самолет, предназначенный для уничтожения пилотируемых и беспилотных летательных аппаратов в воздухе. Может также применяться для поражения наземных (морских) объектов и ведения воздушной разведки. Основным видом боевых действий истребителя является воздушный бой, борьба за завоевание господства в воздухе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стребители оснащаются комплексами поиска и уничтожения воздушных целей, имеют на вооружени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управляемые ракеты, встроенную пушку и ракетно-бомбовое вооружение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2" name="Picture 4" descr="Знак"/>
          <p:cNvPicPr/>
          <p:nvPr/>
        </p:nvPicPr>
        <p:blipFill>
          <a:blip r:embed="rId1"/>
          <a:stretch/>
        </p:blipFill>
        <p:spPr>
          <a:xfrm>
            <a:off x="324000" y="115920"/>
            <a:ext cx="1096920" cy="11001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" descr="Описание: C:\Documents and Settings\Fadzeyeu_V\Рабочий стол\Допризывная подготовка изменение 4 раздела\mig296.jpg"/>
          <p:cNvPicPr/>
          <p:nvPr/>
        </p:nvPicPr>
        <p:blipFill>
          <a:blip r:embed="rId2"/>
          <a:stretch/>
        </p:blipFill>
        <p:spPr>
          <a:xfrm>
            <a:off x="324000" y="3429000"/>
            <a:ext cx="447012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1026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27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39840" y="259920"/>
            <a:ext cx="84643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СУ-25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штурмовик, ударный самолёт авиации ВВС и войск ПВО РБ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ловысотный боевой самолет для  поражения малоразмерных и подвижных наземных (морских) целей, а также живой силы противника на поле боя и в ближних тылах  с применением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бомбардировочного, ракетног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в том числе управляемого) 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стрелкового вооружения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змещаемого на десяти точках подвески.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меет двуствольную встроенную пушку калибр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30 мм.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тличительная особенность этого самолета − бронирование для защиты экипажа и наиболее важных частей самолета.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7" name="Picture 4" descr="Знак"/>
          <p:cNvPicPr/>
          <p:nvPr/>
        </p:nvPicPr>
        <p:blipFill>
          <a:blip r:embed="rId1"/>
          <a:stretch/>
        </p:blipFill>
        <p:spPr>
          <a:xfrm>
            <a:off x="324000" y="152280"/>
            <a:ext cx="1096920" cy="11001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4" descr="Описание: C:\Documents and Settings\Fadzeyeu_V\Рабочий стол\Допризывная подготовка изменение 4 раздела\image-0-02-05-d797737cdfe817f4529c2f20e3bff8225560527783f60c5458a3c4c1bddb48eb-V.jpg"/>
          <p:cNvPicPr/>
          <p:nvPr/>
        </p:nvPicPr>
        <p:blipFill>
          <a:blip r:embed="rId2"/>
          <a:stretch/>
        </p:blipFill>
        <p:spPr>
          <a:xfrm>
            <a:off x="395280" y="3382920"/>
            <a:ext cx="5022720" cy="32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	</a:t>
            </a: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324000" y="562320"/>
            <a:ext cx="856908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          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АН-26                             ИЛ-76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лёгкий военно-                                  (средний военно-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ранспортный самолёт)              транспортный самолё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едназначен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для выброски (высадки) воздушных десантов и осуществления воздушных перевозок войск, боевой техники, вооружения, боеприпасов, горючего, продовольствия и других материальных средств, эвакуации раненых и боль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Знак"/>
          <p:cNvPicPr/>
          <p:nvPr/>
        </p:nvPicPr>
        <p:blipFill>
          <a:blip r:embed="rId1"/>
          <a:stretch/>
        </p:blipFill>
        <p:spPr>
          <a:xfrm>
            <a:off x="179280" y="189000"/>
            <a:ext cx="1096920" cy="11001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6" descr="Описание: C:\Documents and Settings\Fadzeyeu_V\Рабочий стол\Допризывная подготовка изменение 4 раздела\image-0-02-05-271b6c0604fd0c6a21b8946a9d59bb3c884d0e99b5152010d3eea37fdaa3d874-V.jpg"/>
          <p:cNvPicPr/>
          <p:nvPr/>
        </p:nvPicPr>
        <p:blipFill>
          <a:blip r:embed="rId2"/>
          <a:stretch/>
        </p:blipFill>
        <p:spPr>
          <a:xfrm>
            <a:off x="449280" y="2060640"/>
            <a:ext cx="3940200" cy="262404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8" descr="Описание: C:\Documents and Settings\Fadzeyeu_V\Рабочий стол\Допризывная подготовка изменение 4 раздела\image-0-02-05-41f9add13d4069b571e554bb1be1bdcc20f58f43dd63130d4c4a842156fc7b2e-V.jpg"/>
          <p:cNvPicPr/>
          <p:nvPr/>
        </p:nvPicPr>
        <p:blipFill>
          <a:blip r:embed="rId3"/>
          <a:stretch/>
        </p:blipFill>
        <p:spPr>
          <a:xfrm>
            <a:off x="4643280" y="2060640"/>
            <a:ext cx="4104000" cy="262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Знак"/>
          <p:cNvPicPr/>
          <p:nvPr/>
        </p:nvPicPr>
        <p:blipFill>
          <a:blip r:embed="rId1"/>
          <a:stretch/>
        </p:blipFill>
        <p:spPr>
          <a:xfrm>
            <a:off x="250920" y="260280"/>
            <a:ext cx="1096920" cy="1100160"/>
          </a:xfrm>
          <a:prstGeom prst="rect">
            <a:avLst/>
          </a:prstGeom>
          <a:ln w="0">
            <a:noFill/>
          </a:ln>
        </p:spPr>
      </p:pic>
      <p:sp>
        <p:nvSpPr>
          <p:cNvPr id="115" name="Line 3"/>
          <p:cNvSpPr/>
          <p:nvPr/>
        </p:nvSpPr>
        <p:spPr>
          <a:xfrm flipH="1">
            <a:off x="2339640" y="2852640"/>
            <a:ext cx="57636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4572000" y="2852640"/>
            <a:ext cx="72072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3348000" y="3429000"/>
            <a:ext cx="1440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4067280" y="4365720"/>
            <a:ext cx="0" cy="358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3995640" y="3429000"/>
            <a:ext cx="71640" cy="50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4140360" y="5300640"/>
            <a:ext cx="71280" cy="57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95280" y="308880"/>
            <a:ext cx="84200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ЯК-1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вухместный учебно-боевой само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назначе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ля обучения и тренировки летного состава взлету, посадке, пилотированию и воздушной навигации днем и ночью в простых и сложных метеоусловиях, сложным видам маневрирования во всем эксплуатационном диапазоне высот и скоростей, включая предельные режимы, освоения системы вооружения самолета, обучения и отработки боевого применения при действии по наземным и воздушным целям с использованием авиационных средств пора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12" descr="Описание: http://www.irkut.com/upload/information_system_15/1/8/4/item_1843/information_items_1843.jpg"/>
          <p:cNvPicPr/>
          <p:nvPr/>
        </p:nvPicPr>
        <p:blipFill>
          <a:blip r:embed="rId2"/>
          <a:stretch/>
        </p:blipFill>
        <p:spPr>
          <a:xfrm>
            <a:off x="2484360" y="3697200"/>
            <a:ext cx="5345280" cy="29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Знак"/>
          <p:cNvPicPr/>
          <p:nvPr/>
        </p:nvPicPr>
        <p:blipFill>
          <a:blip r:embed="rId1"/>
          <a:stretch/>
        </p:blipFill>
        <p:spPr>
          <a:xfrm>
            <a:off x="250920" y="260280"/>
            <a:ext cx="1096920" cy="11001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468360" y="333360"/>
            <a:ext cx="8280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Л-3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ебно-тренировочный само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едназначе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для  обучения  курсантов полётам на реактивном самолёте днём и ночью в простых и сложных метеоусловиях, обучения элементам боевого применения, связанным с перехватом воздушных целей визуально, действиям по наземным цел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13" descr="Описание: C:\Documents and Settings\Fadzeyeu_V\Рабочий стол\Допризывная подготовка изменение 4 раздела\l394.JPG"/>
          <p:cNvPicPr/>
          <p:nvPr/>
        </p:nvPicPr>
        <p:blipFill>
          <a:blip r:embed="rId2"/>
          <a:stretch/>
        </p:blipFill>
        <p:spPr>
          <a:xfrm>
            <a:off x="3390840" y="3500280"/>
            <a:ext cx="5400720" cy="30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3640" y="542880"/>
            <a:ext cx="8569080" cy="577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МИ-24П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интокрылая «боевая машина пехоты», вертолёт огневой поддержки, истребитель танков. На Западе Ми-24 окрест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«летающим танком»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 вертолёте применено бронирование всех жизненно важных узлов. Экипаж Ми-24 составляю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человека (лётчик, лётчик-оператор, борттехник), а десант может бы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до 8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человек в полной экипировке. Максимальная скорость вер­толёта −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335 км/ч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аксимальная высота прямолинейного полёта достига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4500 м.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ртолёт вооружён двуствольно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30-мм пушкой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На вертолёте могут быть размещен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до 8 ПТУР, до 4-х блоков неуправляемых ракет, бомб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 другое вооружение и оборудование в подвесных контейнерах. Максимальная взлётная масса составля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11 500 кг.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7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Описание: Картинки по запросу боевые применение вертолеты фото"/>
          <p:cNvPicPr/>
          <p:nvPr/>
        </p:nvPicPr>
        <p:blipFill>
          <a:blip r:embed="rId2"/>
          <a:stretch/>
        </p:blipFill>
        <p:spPr>
          <a:xfrm>
            <a:off x="135000" y="3573360"/>
            <a:ext cx="5256000" cy="262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4000" y="475920"/>
            <a:ext cx="8353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МИ-8МТВ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ранспортно-боевой вертолё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предназначе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для ведения боевых действий  и перевозки десанта и грузов. Максимальная скорость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250 км/ч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инамический потолок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более 5000 м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Максимальный взлётный вес −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13 000 кг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ертолёт вооружен блоками с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неуправ­ляемыми ракетами, бомбам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и другим подвесным вооружением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0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Описание: Фотогалерея - Совместное миротворческое учение ОДКБ &quot;Нерушим…"/>
          <p:cNvPicPr/>
          <p:nvPr/>
        </p:nvPicPr>
        <p:blipFill>
          <a:blip r:embed="rId2"/>
          <a:stretch/>
        </p:blipFill>
        <p:spPr>
          <a:xfrm>
            <a:off x="1979640" y="3408480"/>
            <a:ext cx="5184720" cy="3267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6T11:20:55Z</dcterms:created>
  <dc:creator>Управление РТВ</dc:creator>
  <dc:description/>
  <dc:language>en-US</dc:language>
  <cp:lastModifiedBy>Казаков</cp:lastModifiedBy>
  <cp:lastPrinted>2004-03-09T17:27:58Z</cp:lastPrinted>
  <dcterms:modified xsi:type="dcterms:W3CDTF">2017-06-21T09:47:40Z</dcterms:modified>
  <cp:revision>533</cp:revision>
  <dc:subject/>
  <dc:title>Заголовок слайда отсутствует</dc:title>
</cp:coreProperties>
</file>