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8E29-FC6C-4E3A-A33B-22A8AD95CD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2E79-D65E-4A79-AEA5-2BC1C6C273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5622-8CEA-4EA9-B660-4F6571D974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C80D-DF32-43E8-AB02-75D974504B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864D-8B8D-480C-B7B3-BC45073A93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1B10-689D-47C8-9633-48E6C8B8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EA0-9882-4E25-AD47-D2E0EB10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6AE7-CA15-4656-9344-6727795B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3C78-C26A-42BF-BC16-F930F48F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CD12-110F-49D3-B4BC-74799E1A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586C-C259-4E82-B119-4F3923FD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6696-35D2-484D-B36E-28291EB1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78CD-67CD-4759-B280-2834928A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D939-8286-4905-A3B6-E690B823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A1F9-8CD3-4682-AFBD-723AFA80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98E8-18B1-49C8-8A4B-458B3AD3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80EF-D575-45E1-9A40-385A14F7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8FC8-1E31-46CA-8651-59441E55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8CA8-CB4D-4C18-B75B-61A7F996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698D-99A0-439C-85BF-57A802E7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0D37-33E5-4B72-BC29-B68B676E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F0AD-E5E0-4360-8883-133C090B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BDF-28CA-47FF-8D2D-D1AFDC6C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57F7-C061-4737-B09A-30D004C1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F80-3CBE-416F-BF1F-882EE304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6394-0AB2-4DEA-857A-F2B56431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81DF-58F7-43DC-9753-F6C33D6A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FD0-0AAC-4450-9209-BEDBC96C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D99-9BCA-4361-864D-5BD17ED6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1477-EA75-45D6-9459-7FEB12D01A70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CFF0-76A6-4D6A-99C6-AA104E4A0501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730872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Text Box 6" descr=""/>
          <p:cNvPicPr/>
          <p:nvPr/>
        </p:nvPicPr>
        <p:blipFill>
          <a:blip r:embed="rId1"/>
          <a:stretch/>
        </p:blipFill>
        <p:spPr>
          <a:xfrm>
            <a:off x="-23760" y="2004840"/>
            <a:ext cx="9423360" cy="2878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Знак"/>
          <p:cNvPicPr/>
          <p:nvPr/>
        </p:nvPicPr>
        <p:blipFill>
          <a:blip r:embed="rId2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66720" y="907560"/>
            <a:ext cx="8236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ВОЕННО-ВОЗДУШНЫЕ СИЛЫ И ВОЙСКА    ПРОТИВОВОЗДУШНОЙ ОБОРОНЫ 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ид Вооруженных Сил, предназначенный для ведения самостоятельных или совместных с Сухопутными войсками действий по разгрому авиационных и сухопутных группировок противника, его резервов и важных объектов, прикрытия войск и других объектов от ударов и разведки противника с воздуха, высадки воздушных десантов, ведения воздушной разведки, осуществления воздушных перевозок и выполнения других задач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7" name="Picture 4" descr="Знак"/>
          <p:cNvPicPr/>
          <p:nvPr/>
        </p:nvPicPr>
        <p:blipFill>
          <a:blip r:embed="rId1"/>
          <a:stretch/>
        </p:blipFill>
        <p:spPr>
          <a:xfrm>
            <a:off x="108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39640" y="225360"/>
            <a:ext cx="8229600" cy="65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7030a0"/>
                </a:solidFill>
                <a:uFillTx/>
                <a:latin typeface="Century Gothic"/>
              </a:rPr>
              <a:t>ВВС и войска ПВО включают: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авиацию,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зенитные ракетные войска,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радиотехнические войска,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воинские части специальных войск (связи, РЭБ, РХБ защиты, навигационно-топографические),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технического и тылового (медицинского, инженерно-аэродромного) обеспечения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9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835200"/>
            <a:ext cx="8483400" cy="526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Arial"/>
                <a:ea typeface="Arial"/>
              </a:rPr>
              <a:t>АВИАЦИЯ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  <a:ea typeface="Arial"/>
              </a:rPr>
              <a:t>Современная военная авиац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— реактивная, сверхзвуковая, ракетоносная, всепогодная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виация ВВС и войск ПВО подразделяется на </a:t>
            </a:r>
            <a:r>
              <a:rPr b="1" lang="ru-RU" sz="28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рода авиации: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стребительную,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турмовую,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еспилотную,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ную,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виацию непосредственной авиационной поддержк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1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000" y="1052280"/>
            <a:ext cx="8483400" cy="48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Arial"/>
                <a:ea typeface="Arial"/>
              </a:rPr>
              <a:t>ЗЕНИТНЫЕ РАКЕТНЫЕ ВОЙСКА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огневая сила в системе противовоздушной обороны, предназначенная для защиты административно-политических центров, промышленно-экономических районов страны, группировок Вооруженных Сил, важных военных и других объектов от ударов авиации и беспилотных средств противника с воздух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3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4000" y="20520"/>
            <a:ext cx="8627760" cy="655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Arial"/>
                <a:ea typeface="Arial"/>
              </a:rPr>
              <a:t>РАДИОТЕХНИЧЕСКИЕ ВОЙСКА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од войск ВВС и войск ПВО, основной источник информации о воздушных целях противника. 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Предназначены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для ведения радиолокационной разведки и выдачи информации о начале воздушного нападения, боевой информации для зенитных ракетных войск, истребительной авиации и информации для боевого управления соединениями, воинскими частями и подразделениями, контроля за перелетами (полетами) своей авиации, соблюдением правил использования воздушного пространства, а также для засечки ядерных взрывов. 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5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39480" y="847440"/>
            <a:ext cx="862812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       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СИЛЫ СПЕЦИАЛЬНЫХ ОПЕРАЦИЙ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д войск Вооруженных Сил,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редназначенн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для выполнения разведывательных, специальных и организационных задач как на временно захваченной противником, так и на своей территории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 менее важная задача сил специальных операций —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антитеррористическая и контрдиверсионная борьб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7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24000" y="476280"/>
            <a:ext cx="8627760" cy="596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ru-RU" sz="3600" spc="-1" strike="noStrike" u="sng">
                <a:solidFill>
                  <a:srgbClr val="00b0f0"/>
                </a:solidFill>
                <a:uFillTx/>
                <a:latin typeface="Arial"/>
                <a:ea typeface="Arial"/>
              </a:rPr>
              <a:t>К силам специальных операций ВС относятся: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командование с подразделениями связи и обслуживания,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тдельные десантно-штурмовая и воздушно-десантная бригады,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оединение и воинские части специального назначения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9" name="Picture 4" descr="Знак"/>
          <p:cNvPicPr/>
          <p:nvPr/>
        </p:nvPicPr>
        <p:blipFill>
          <a:blip r:embed="rId1"/>
          <a:stretch/>
        </p:blipFill>
        <p:spPr>
          <a:xfrm>
            <a:off x="250920" y="4932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39480" y="441360"/>
            <a:ext cx="8628120" cy="576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ВОЙСКА СВЯЗИ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вляясь специальными войсками,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предназначен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для развертывания и эксплуатации системы связи, обеспечения управления Вооруженными Силами в их повседневной и оперативной (боевой) деятельности всех видов. Также на войска связи возлагаются задачи по взаимодействию с силами электросвязи государства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1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39480" y="225360"/>
            <a:ext cx="8628120" cy="619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entury Gothic"/>
              </a:rPr>
              <a:t>ВОЙСКА РХБ ЗАЩИТЫ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пециальные войска,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предназначенны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для выполнения задач РХБ защиты боевых действий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овременные войска РХБ защиты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состоят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из воинских частей и подразделений, силами и средствами которых выполняются задачи РХБ разведки, специальной обработки вооружения, военной и специальной техники, обмундирования, других материальных средств, а также дегазация и дезактивация местност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них входят также подразделения, предназначенные для снижения заметности войск и объектов, применения огнеметно-зажигательных средств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3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39480" y="447480"/>
            <a:ext cx="8628120" cy="575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ИНЖЕНЕРНЫЕ ВОЙСКА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ые войска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едназначен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для выполнения задач инженерного обеспечения военных действий (операций и боевых действий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ключаю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 себя соединения (воинские части, подразделения) инженерной разведки, инженерно-саперные, заграждений, разграждения, понтонно-мостовые, переправочно-десантные, дорожно-мостостроительные, инженерно-дорожные, инженерно-позиционные, инженерно-технические, инженерно-маскировочные, оборудования пунктов управления, полевого водоснабжения, инженерно-ремонтные, а также инженерные склады, склады (базы) инженерных боеприпасов и друг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5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4000" y="25992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395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Вооруженные Силы Республики Беларус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— основа военной организации государства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95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Состав: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9500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центральные органы военного управления,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9500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иды Вооруженных Сил,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9500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да войск,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9500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ые войска,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9500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оружение Вооруженных Сил,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9500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ыл Вооруженных Сил,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9500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енные учебные заведения,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9500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енные комиссариаты,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9500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и Министерства обороны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0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39480" y="317520"/>
            <a:ext cx="8628120" cy="60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entury Gothic"/>
              </a:rPr>
              <a:t>ТРАНСПОРТНЫЕ ВОЙСКА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специальные войска,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предназначенны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для транспортного обеспечения Вооруженных Сил Республики Беларусь, других войск и воинских формирований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На них возложены такие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задачи,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как техническое прикрытие, восстановление, повышение живучести и пропускной способности железных и автомобильных дорог в районах ведения боевых действий, обеспечение воинских перевозок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7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39480" y="581400"/>
            <a:ext cx="8628120" cy="548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1" lang="ru-RU" sz="3200" spc="-1" strike="noStrike">
                <a:solidFill>
                  <a:srgbClr val="00b050"/>
                </a:solidFill>
                <a:latin typeface="Century Gothic"/>
              </a:rPr>
              <a:t>ВООРУЖЕНИЕ ВООРУЖЕННЫХ СИЛ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труктурный элемент Вооруженных Сил,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предназначенный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для технического обеспечения в целом и по видам технического обеспечения (ракетно-техническое, артиллерийско-техническое, танкотехническое, автотехническое, инженерно-авиационное, инженерно-техническое обеспечение; техническое обеспечение РХБ защиты, техническое обеспечение связи и комплексов средств автоматизации; техническое обеспечение по службам тыла; метрологическое обеспечение) Вооруженных Сил и территориальных войск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9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39480" y="471240"/>
            <a:ext cx="8628120" cy="570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ТЫЛ ВООРУЖЕННЫХ СИЛ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ый элемент Вооруженных Сил.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Предназначе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для создания и содержания запасов материальных средств, организации их подвоза и осуществления воинских перевозок, оказания медицинской помощи раненым и больным, организации питания, банно-прачечного обслуживания, обеспечения вещевым имуществом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1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24000" y="141120"/>
            <a:ext cx="8627760" cy="670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ВОЕННЫЕ УЧЕБНЫЕ ЗАВЕДЕНИЯ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РЕСПУБЛИКИ БЕЛАРУСЬ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реализующие образовательные программы высшего образования по специальностям для Вооруженных Сил, в настоящее время представлены </a:t>
            </a:r>
            <a:r>
              <a:rPr b="1" lang="ru-RU" sz="2300" spc="-1" strike="noStrike">
                <a:solidFill>
                  <a:srgbClr val="ff0000"/>
                </a:solidFill>
                <a:latin typeface="Arial"/>
                <a:ea typeface="Arial"/>
              </a:rPr>
              <a:t>учреждением образования «Военная академия Республики Беларусь» и семью военными факультетами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в ведущих учреждениях высшего образования: Белорусском государственном университете, Белорусском национальном техническом университете, учреждениях образования «Белорусский государственный университет информатики и радиоэлектроники», «Белорусский государственный медицинский университет», «Белорусский государственный университет транспорта», «Гродненский государственный университет имени Янки Купалы», «Белорусская государственная академия авиации».</a:t>
            </a:r>
            <a:endParaRPr b="0" lang="en-US" sz="23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3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24000" y="495000"/>
            <a:ext cx="8627760" cy="600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ВОЕННЫЕ КОМИССАРИАТЫ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являются местными органами военного управления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Для решения задач по территориальной обороне Республики Беларусь создаются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ТЕРРИТОРИАЛЬНЫЕ ВОЙСК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, которые явятся резервным компонентом Вооруженных Сил и будут развертываться в угрожаемый период или с началом войны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5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1026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27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000" y="1360440"/>
            <a:ext cx="846468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ВИДЫ ВООРУЖЕННЫХ СИЛ: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ухопутные войска;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оенно-воздушные силы и войска противовоздушной обороны.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06" name="Содержимое 5"/>
          <p:cNvGraphicFramePr/>
          <p:nvPr/>
        </p:nvGraphicFramePr>
        <p:xfrm>
          <a:off x="843120" y="1830240"/>
          <a:ext cx="6734160" cy="41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Содержимое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830240"/>
                    <a:ext cx="673416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6"/>
          <p:cNvSpPr/>
          <p:nvPr/>
        </p:nvSpPr>
        <p:spPr>
          <a:xfrm>
            <a:off x="324000" y="247680"/>
            <a:ext cx="856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СУХОПУТНЫЕ ВОЙ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иболее многочисленный вид Вооруженных Сил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дназначенны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для отражения ударов сил и средств сухопутных группировок противника, нанесения им поражения, удержания занимаемых районов и рубежей, создания условий для разгрома вторгшихся войс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Знак"/>
          <p:cNvPicPr/>
          <p:nvPr/>
        </p:nvPicPr>
        <p:blipFill>
          <a:blip r:embed="rId3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Знак"/>
          <p:cNvPicPr/>
          <p:nvPr/>
        </p:nvPicPr>
        <p:blipFill>
          <a:blip r:embed="rId1"/>
          <a:stretch/>
        </p:blipFill>
        <p:spPr>
          <a:xfrm>
            <a:off x="250920" y="260280"/>
            <a:ext cx="1096920" cy="1100160"/>
          </a:xfrm>
          <a:prstGeom prst="rect">
            <a:avLst/>
          </a:prstGeom>
          <a:ln w="0">
            <a:noFill/>
          </a:ln>
        </p:spPr>
      </p:pic>
      <p:sp>
        <p:nvSpPr>
          <p:cNvPr id="111" name="Line 3"/>
          <p:cNvSpPr/>
          <p:nvPr/>
        </p:nvSpPr>
        <p:spPr>
          <a:xfrm flipH="1">
            <a:off x="2339640" y="2852640"/>
            <a:ext cx="576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4572000" y="2852640"/>
            <a:ext cx="72072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3348000" y="3429000"/>
            <a:ext cx="1440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4067280" y="4365720"/>
            <a:ext cx="0" cy="35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3995640" y="3429000"/>
            <a:ext cx="71640" cy="50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4140360" y="5300640"/>
            <a:ext cx="7128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539640" y="1491480"/>
            <a:ext cx="831852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b050"/>
                </a:solidFill>
                <a:uFillTx/>
                <a:latin typeface="Arial"/>
              </a:rPr>
              <a:t>Сухопутные войска включаю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да войск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ециальные войск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единения и воинские части технического и тылового обеспеч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Знак"/>
          <p:cNvPicPr/>
          <p:nvPr/>
        </p:nvPicPr>
        <p:blipFill>
          <a:blip r:embed="rId1"/>
          <a:stretch/>
        </p:blipFill>
        <p:spPr>
          <a:xfrm>
            <a:off x="250920" y="260280"/>
            <a:ext cx="1096920" cy="1100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539640" y="1357200"/>
            <a:ext cx="8280360" cy="33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b050"/>
                </a:solidFill>
                <a:uFillTx/>
                <a:latin typeface="Arial"/>
              </a:rPr>
              <a:t>Рода войск: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ханизированные войс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кетные войска и артиллерия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йсковая противовоздушная оборо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84360" y="616680"/>
            <a:ext cx="7929360" cy="60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7030a0"/>
                </a:solidFill>
                <a:uFillTx/>
                <a:latin typeface="Century Gothic"/>
              </a:rPr>
              <a:t>МЕХАНИЗИРОВАННЫЕ ВОЙСКА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род войск Сухопутных войск, предназначенный для ведения боевых действий по отражению ударов, удержанию занимаемых районов и рубежей, разгрому вторгшихся группировок войск противника на операционных направлениях во взаимодействии с силами и средствами соединений и воинских частей Военно-воздушных сил и войск противовоздушной обороны, родов войск, специальных войск Вооруженных Сил, других войск и воинских формирований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1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95280" y="1326960"/>
            <a:ext cx="835344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Century Gothic"/>
              </a:rPr>
              <a:t>РАКЕТНЫЕ ВОЙСКА И АРТИЛЛЕРИЯ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род войск Сухопутных войск, предназначенный для огневого поражения противника, а также для выполнения специальных задач (задымление объектов, световое обеспечение, дистанционное минирование местности и объектов, ослепление личного состава противника)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3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360080"/>
            <a:ext cx="856908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7030a0"/>
                </a:solidFill>
                <a:uFillTx/>
                <a:latin typeface="Century Gothic"/>
              </a:rPr>
              <a:t>ВОЙСКОВАЯ ПРОТИВОВОЗДУШНАЯ ОБОРОНА (ПВО)</a:t>
            </a:r>
            <a:r>
              <a:rPr b="1" i="1" lang="ru-RU" sz="2400" spc="-1" strike="noStrike">
                <a:solidFill>
                  <a:srgbClr val="7030a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Сухопутных войск состоит из зенитных ракетных, зенитных ракетно-артиллерийских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 радиотехнических воинских часте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 подразделений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  <a:ea typeface="Arial"/>
              </a:rPr>
              <a:t>Предназначены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для прикрытия группировок войск и важных объектов от ударов противника с воздуха. Организационно входят в состав общевойсковых объединений, соединений и воинских частей, на них возлагается выполнение задач в единой системе противовоздушной обороны страны и Вооруженных Си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1:20:55Z</dcterms:created>
  <dc:creator>Управление РТВ</dc:creator>
  <dc:description/>
  <dc:language>en-US</dc:language>
  <cp:lastModifiedBy>Казаков</cp:lastModifiedBy>
  <cp:lastPrinted>2004-03-09T17:27:58Z</cp:lastPrinted>
  <dcterms:modified xsi:type="dcterms:W3CDTF">2017-06-28T12:32:29Z</dcterms:modified>
  <cp:revision>513</cp:revision>
  <dc:subject/>
  <dc:title>Заголовок слайда отсутствует</dc:title>
</cp:coreProperties>
</file>