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1AEF-08C4-45AE-8F8F-AADEB1F396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C0DE-7233-4FEE-89C5-434FFB1155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089B-D081-4138-B92F-E3343DA079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4F67-D3E3-4BE4-B4C7-E803335178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F1EF-6474-485A-B0B2-56E30E5AA5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B9C4-0842-4060-A133-63789C5349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8635-EA32-4E56-AEA9-61C97035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7164-5192-427B-879C-E7C5CB21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C489-E0DE-42F1-AACB-4D93C88A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003A-3302-4255-9CDA-DF37819E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A29A-4E36-4957-965B-EC6F544C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C00F-5A15-462A-98C4-9FC18B8C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62BA-81E1-4F36-9682-20C9A8E7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CDDC-2CA7-4788-A074-F7048FC9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4900-E197-4C10-834A-0CCE24B7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BD3C-881B-40AB-9030-E8648641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50AA-2383-4DC1-A92E-E5B78A80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B47-9DCD-4D32-88DB-32275D29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A06D-550C-4081-A0F5-C8D6EB0A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2BED-3865-44EF-BD36-2B85165D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30CE-F5A4-4CB6-B043-2CC60FBA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06EA-37D4-40A5-933F-89494BCA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E020-0012-420F-93EF-2D9CC63E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EF7-C910-44E4-B550-7A55CD02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270D-000F-4C4B-AFF9-7F1B5531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827-892A-491E-9C1A-CAFA5BEC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B8F6-98D0-4E16-9F33-DD035A81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579-DA9E-4819-B305-EEEC535E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244-1C14-4FF0-9C6D-1A3E2795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EDB-48B1-4ED8-AC87-9E022A03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3AA6-4C22-43E8-9A68-6D552CFA635B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2547-986C-45E7-B75E-820B643A1FF6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730872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Text Box 6" descr=""/>
          <p:cNvPicPr/>
          <p:nvPr/>
        </p:nvPicPr>
        <p:blipFill>
          <a:blip r:embed="rId1"/>
          <a:stretch/>
        </p:blipFill>
        <p:spPr>
          <a:xfrm>
            <a:off x="609480" y="1646280"/>
            <a:ext cx="7991640" cy="388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Знак"/>
          <p:cNvPicPr/>
          <p:nvPr/>
        </p:nvPicPr>
        <p:blipFill>
          <a:blip r:embed="rId2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000" y="1378080"/>
            <a:ext cx="82803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ца из числа гражданской молодежи, изъявившие желание поступать в военные учебные заведения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до 1 апреля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да поступления должны подать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заявл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 военный комиссариат района (города) по месту жительства. Абитуриенты, не достигшие 18-летнего возраста, дополнительно должны представить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исьменное соглас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оступление одного из родителей, либо законного представителя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8320" y="620280"/>
            <a:ext cx="85755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9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В конкурсе для получения высшего образования в военных учебных заведениях 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99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имеют право участвовать граждане Республики Беларусь, прошедшие </a:t>
            </a:r>
            <a:r>
              <a:rPr b="1" lang="ru-RU" sz="25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рофессиональный отбор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  <a:ea typeface="Arial"/>
              </a:rPr>
              <a:t>. 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99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ьный отбор абитуриентов осуществляется путем всесторонней оценки каждого абитуриента по следующим показателям: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990000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Arial"/>
                <a:ea typeface="Arial"/>
              </a:rPr>
              <a:t>состояние здоровья;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990000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Arial"/>
                <a:ea typeface="Arial"/>
              </a:rPr>
              <a:t>физическая подготовленность; 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990000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Arial"/>
                <a:ea typeface="Arial"/>
              </a:rPr>
              <a:t>профессионально-психологический отбор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990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(оценка военно-профессиональной направленности и индивидуально-психологических качеств).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0" name="Picture 4" descr="Знак"/>
          <p:cNvPicPr/>
          <p:nvPr/>
        </p:nvPicPr>
        <p:blipFill>
          <a:blip r:embed="rId1"/>
          <a:stretch/>
        </p:blipFill>
        <p:spPr>
          <a:xfrm>
            <a:off x="299880" y="195120"/>
            <a:ext cx="109728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47640" y="293760"/>
            <a:ext cx="8236080" cy="62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прибытии в военное учебное заведение абитуриен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лично подает в приемную комисси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ледующи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окументы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54288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заявл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 имя начальника Военной академии (ректора учреждения образования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54288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аспорт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54288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оригиналы документов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дтверждающих получение общего среднего образования или профессионально-технического образования с общим средним образованием или среднего специального образован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54288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оригиналы сертифика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централизованного тестирования, проведенного в Республике Беларусь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54288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документы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дтверждающие право абитуриента на льготы при приеме на обуч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2" name="Picture 4" descr="Знак"/>
          <p:cNvPicPr/>
          <p:nvPr/>
        </p:nvPicPr>
        <p:blipFill>
          <a:blip r:embed="rId1"/>
          <a:stretch/>
        </p:blipFill>
        <p:spPr>
          <a:xfrm>
            <a:off x="108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1128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ступительные испытания проводятс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виде централизованного тестирования п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белорусскому или русскому языку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по выбору) и п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вум учебным предмета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оответствии с избранной группой специальностей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Зачисл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 военные учебные заведения проводится по конкурсу на основ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бщей суммы баллов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одсчитанной по результатам сдачи централизованного тестировани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о трём предмета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ступительных испытаний 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редним баллом документа об образовани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4" descr="Знак"/>
          <p:cNvPicPr/>
          <p:nvPr/>
        </p:nvPicPr>
        <p:blipFill>
          <a:blip r:embed="rId1"/>
          <a:stretch/>
        </p:blipFill>
        <p:spPr>
          <a:xfrm>
            <a:off x="179280" y="11592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68000" y="133200"/>
            <a:ext cx="8483400" cy="65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        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ПОДГОТОВКА МЛАДШИХ КОМАНДИРОВ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         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И ОФИЦЕРОВ ЗАПАСА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уденты, обучающиеся очно в гражданских высших учебных заведениях, могут обучатьс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о программам подготовки младших командиров и офицеров запас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проводится на военных факультетах и военных кафедрах учреждений образования. Выпускникам, прошедшим полный курс обучения по программам подготовки офицеров запаса и сдавшим государственные выпускные экзамены, присваивается воинское звание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«лейтенант запаса» («младший лейтенант запаса»)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6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24000" y="-566280"/>
            <a:ext cx="8627760" cy="74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1065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Республике Беларусь младших командиро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офицеров запаса по различным специальностям на военных факультетах, военных кафедрах готовя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учреждения образования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лорусский государственный университет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лорусский национальный технический университет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лорусский государственный университет информатики и радиоэлектроники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лорусский государственный университет транспорта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лорусский государственный медицинский университет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одненский государственный университет им. Янки Купалы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лорусская государственная академия авиации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итебский государственный университет им. П.М.Машерова;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одненский государственный медицинский университет;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итебский государственный медицинский университет;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омельский государственный медицинский университет;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лорусская государственная академия связи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8" name="Picture 4" descr="Знак"/>
          <p:cNvPicPr/>
          <p:nvPr/>
        </p:nvPicPr>
        <p:blipFill>
          <a:blip r:embed="rId1"/>
          <a:stretch/>
        </p:blipFill>
        <p:spPr>
          <a:xfrm>
            <a:off x="250920" y="571680"/>
            <a:ext cx="1096920" cy="109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29760" y="549360"/>
            <a:ext cx="862812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УО «МИНСКОЕ СУВОРОВСКОЕ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ВОЕННОЕ УЧИЛИЩЕ»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инское суворовское военное училище является государственным учреждением общего среднего образования 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оенно-профессиональной направленность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бучения и воспитания несовершеннолетних граждан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ила жизни и поведения суворовцев в училище строятся в соответствии с требованиями уставов Вооруженных Сил Республики Беларусь, педагогики, школьной гигиены. Наряду с общеобразовательными предметами учебного плана суворовцы изучаю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едметы военной подготовк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0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24000" y="786960"/>
            <a:ext cx="8627760" cy="560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илище располагает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современной учебно-материальной базой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позволяющей качественно организовать и проводить учебные занятия, выполнять программы обуч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ебные классы, кабинеты, лаборатории оборудованы современными техническими средствами обучения. Есть в училище оборудованные спортзалы и спортплощадки, богатая библиотека, великолепный актовый зал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2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3640" y="25992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1271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Военные учебные заведения Республики Беларусь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ующие образовательные программы высшего образования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1271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12716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реждение образования «Военная академия Республики Беларусь»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12716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 военных факультетов в ведущих учреждениях высшего образования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12716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лорусском государственном университете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12716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лорусском национальном техническом университете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12716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О «Белорусский государственный университет информатики и радиоэлектроники»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12716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О «Белорусский государственный медицинский университет»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12716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О «Белорусский государственный университет транспорта»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12716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О «Гродненский государственный университет имени Янки Купалы»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12716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О «Белорусская государственная академия авиации»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0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4000" y="475920"/>
            <a:ext cx="8353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УЧРЕЖДЕНИЕ ОБРАЗОВАНИЯ «ВОЕННА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 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АКАДЕМИЯ РЕСПУБЛИКИ БЕЛАРУСЬ»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здано в соответствии с Указом Президента Республики Беларусь № 192 о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17 мая 1995 год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е двух высших военных училищ: противовоздушной обороны, история которого началась в 1953 году, и общевойскового политического училища, основанного в 1980 году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настоящее время Военная академия является учреждением высшего образования, ведущи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учебным, методическим и научным центр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истеме военного образования и входит в число крупнейших вузов стран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2" name="Picture 4" descr="Знак"/>
          <p:cNvPicPr/>
          <p:nvPr/>
        </p:nvPicPr>
        <p:blipFill>
          <a:blip r:embed="rId1"/>
          <a:stretch/>
        </p:blipFill>
        <p:spPr>
          <a:xfrm>
            <a:off x="108000" y="260280"/>
            <a:ext cx="1096920" cy="1100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rcRect l="21131" t="5697" r="12844" b="11820"/>
          <a:stretch/>
        </p:blipFill>
        <p:spPr>
          <a:xfrm>
            <a:off x="7796160" y="260280"/>
            <a:ext cx="120960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02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27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274680"/>
            <a:ext cx="846432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6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ой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цель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еятельности Военной академии является осуществление качественной подготовки специалистов военного профиля в интересах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беспечения национальной безопасно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Республики Беларусь.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76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емь факультетов Военной академии готовят специалистов тактического уровня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7640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общевойсково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7640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связи и автоматизированных систем управления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7640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противовоздушной обороны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7640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военной разведки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7640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авиацион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7640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внутренних войск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7640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ракетных войск и артиллерии и ракетно-артиллерийского вооружения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76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ка офицеров с высшим образованием для замещения первичных офицерских должностей осуществляется, как правило, в течение 4-х лет. Обучающиеся именуются курсантами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09" name="Содержимое 5"/>
          <p:cNvGraphicFramePr/>
          <p:nvPr/>
        </p:nvGraphicFramePr>
        <p:xfrm>
          <a:off x="843120" y="1830240"/>
          <a:ext cx="6734160" cy="41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Содержимое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830240"/>
                    <a:ext cx="673416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6"/>
          <p:cNvSpPr/>
          <p:nvPr/>
        </p:nvSpPr>
        <p:spPr>
          <a:xfrm>
            <a:off x="324000" y="752040"/>
            <a:ext cx="856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курсантов осуществляет высококвалифицированный  профессорско-преподавательский состав, насчитывающий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лее 700 человек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реди которых доктора и кандидаты наук, профессора и доц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чебно-материальная баз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оенной академии включает в себ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162080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чебных корпусов, размещенных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ород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162080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3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лекционных аудитор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162080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ее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38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ециализированных классов и лаборатор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162080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ые библиоте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162080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ртзалы, спортгородки, стадио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162080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лковый комплекс, ти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162080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гоны, войсковое стрельб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Знак"/>
          <p:cNvPicPr/>
          <p:nvPr/>
        </p:nvPicPr>
        <p:blipFill>
          <a:blip r:embed="rId3"/>
          <a:stretch/>
        </p:blipFill>
        <p:spPr>
          <a:xfrm>
            <a:off x="324000" y="44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Знак"/>
          <p:cNvPicPr/>
          <p:nvPr/>
        </p:nvPicPr>
        <p:blipFill>
          <a:blip r:embed="rId1"/>
          <a:stretch/>
        </p:blipFill>
        <p:spPr>
          <a:xfrm>
            <a:off x="250920" y="260280"/>
            <a:ext cx="1096920" cy="1100160"/>
          </a:xfrm>
          <a:prstGeom prst="rect">
            <a:avLst/>
          </a:prstGeom>
          <a:ln w="0">
            <a:noFill/>
          </a:ln>
        </p:spPr>
      </p:pic>
      <p:sp>
        <p:nvSpPr>
          <p:cNvPr id="114" name="Line 3"/>
          <p:cNvSpPr/>
          <p:nvPr/>
        </p:nvSpPr>
        <p:spPr>
          <a:xfrm flipH="1">
            <a:off x="2339640" y="2852640"/>
            <a:ext cx="576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572000" y="2852640"/>
            <a:ext cx="72072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3348000" y="3429000"/>
            <a:ext cx="1440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67280" y="4365720"/>
            <a:ext cx="0" cy="35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3995640" y="3429000"/>
            <a:ext cx="71640" cy="50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140360" y="5300640"/>
            <a:ext cx="7128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539640" y="1440360"/>
            <a:ext cx="8318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рактическую подготовку курсантов отводится окол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0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чебн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формирования практических навыков при изучении вооружения и военной техники в Военной академии широко использую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ренаж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чебный г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оит из двух семестр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7840" algn="just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осенн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7840" algn="just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есенн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онце каждого семестра курсанты сдаю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четы и экзаме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окончании академии выпускникам присваивается воинское звание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«лейтенан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Знак"/>
          <p:cNvPicPr/>
          <p:nvPr/>
        </p:nvPicPr>
        <p:blipFill>
          <a:blip r:embed="rId1"/>
          <a:stretch/>
        </p:blipFill>
        <p:spPr>
          <a:xfrm>
            <a:off x="250920" y="260280"/>
            <a:ext cx="1096920" cy="11001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539640" y="115920"/>
            <a:ext cx="828036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95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период обучения курсанты обеспечиваются всем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идами довольств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95320" algn="just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денежны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95320" algn="just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вещевы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95320" algn="just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родовольственн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95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рсанты младших курсов проживают в казармах, а курсанты старших – в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лагоустроенных общежитиях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тание обучающихся организовано в столовых, в соответствии с установленными нормами снабжения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ва раза в год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зимой и летом) курсантам предоставляется каникулярный отпуск продолжительностью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4 и 30 суто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ответствен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24000" y="188640"/>
            <a:ext cx="8496000" cy="63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ВОЕННЫЕ ФАКУЛЬТЕТЫ В УВО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военных факультетов в ведущих учреждениях высшего образования позволило эффективно использовать их научный потенциал, материально-техническую базу для подготовки военных специалистов, снизить многопрофильность Военной академии и перевести во вновь созданные военные факультеты часть специальностей, по которым осуществлялась подготовка белорусских военнослужащих в военных учебных заведениях иностранных государств. </a:t>
            </a:r>
            <a:endParaRPr b="0" lang="en-US" sz="23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Объединение в одном учебном заведении родственных специальностей по подготовке гражданских и военных специалистов позволило </a:t>
            </a:r>
            <a:r>
              <a:rPr b="1" lang="ru-RU" sz="2300" spc="-1" strike="noStrike">
                <a:solidFill>
                  <a:srgbClr val="ff0000"/>
                </a:solidFill>
                <a:latin typeface="Arial"/>
                <a:ea typeface="Arial"/>
              </a:rPr>
              <a:t>уменьшить экономические затраты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а подготовку офицерских кадров.</a:t>
            </a:r>
            <a:endParaRPr b="0" lang="en-US" sz="23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4" name="Picture 4" descr="Знак"/>
          <p:cNvPicPr/>
          <p:nvPr/>
        </p:nvPicPr>
        <p:blipFill>
          <a:blip r:embed="rId1"/>
          <a:stretch/>
        </p:blipFill>
        <p:spPr>
          <a:xfrm>
            <a:off x="324000" y="11592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68360" y="47628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ПОРЯДОК ПРИЕМА В ВУЗы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военные учебные заведения на конкурсной основе принимаются граждане Республики Беларусь, имеющи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бщее среднее образование или профессионально-техническое образование с общим средним образованием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либо среднее специальное образование в возраст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т 17 до 21 года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 том числе те, которые достигнут 17-летнего возраста или достигли 21-летнего возраста в год поступления для получения образования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6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1:20:55Z</dcterms:created>
  <dc:creator>Управление РТВ</dc:creator>
  <dc:description/>
  <dc:language>en-US</dc:language>
  <cp:lastModifiedBy>Казаков</cp:lastModifiedBy>
  <cp:lastPrinted>2004-03-09T17:27:58Z</cp:lastPrinted>
  <dcterms:modified xsi:type="dcterms:W3CDTF">2017-06-22T08:02:10Z</dcterms:modified>
  <cp:revision>518</cp:revision>
  <dc:subject/>
  <dc:title>Заголовок слайда отсутствует</dc:title>
</cp:coreProperties>
</file>