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EF2-6CA0-4D12-8578-AAFAD42F23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E65-59DD-45B3-BE67-2410EE6C3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0F2-4683-45DD-8F4D-05A560143B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8002-98A4-41E4-B728-A3718BB39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883-D543-498E-A55C-39A0B40E8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D34-443D-4B5F-86A1-71ABADC9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A8-1010-47BB-8DCE-66AE886C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19E-136E-4CF7-8AD4-27CAA2D6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118-946F-4606-863A-33718EED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AC3-79E2-4A5B-AB0D-E5FA3215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2332-00D1-41DA-8A4E-D6D75DE0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39F-2B59-42E1-BA4C-CED8C099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D5C5-36F6-48EB-81C1-D775442F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32D-EDFF-43D0-A2E8-A9F4073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48EF-1A24-458A-95CD-255AEB6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3E3-FECF-4210-88AD-D61CDBF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1DE-E405-4EB9-A283-7574DC4B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CD9B-E43C-4877-9F6E-CACD40A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889A-4744-4FF0-83BC-002CB8C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EE3-1D9D-4BAA-BA53-65B92BA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350-40D1-491C-801F-01D72A66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BBC2-0BC1-461A-8151-7ECBE75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143-62FA-4C4E-81EE-FF392BC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C94-5DC4-4FA0-9B49-3CABE3B3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A58-B8D2-46C1-8ED4-DF3254A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19A-25AC-4419-8EBB-20016B0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52D-62D1-4BA5-8BB1-02A8E3F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FF8-0FD4-489A-9FDD-EF4850C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D79-B3BA-4345-BA24-A3DCD39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B7A-0C19-4AC7-B67A-7CD3506AFD1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5BEC-B978-4249-87D1-C15B47071B9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-23760" y="2004840"/>
            <a:ext cx="9423360" cy="287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66720" y="907560"/>
            <a:ext cx="823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ОЕННО-ВОЗДУШНЫЕ СИЛЫ И ВОЙСКА    ПРОТИВОВОЗДУШНОЙ ОБОРОНЫ 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Вооруженных Сил, предназначенный для ведения самостоятельных или совместных с Сухопутными войсками действий по разгрому авиационных и сухопутных группировок противника, его резервов и важных объектов, прикрытия войск и других объектов от ударов и разведки противника с воздуха, высадки воздушных десантов, ведения воздушной разведки, осуществления воздушных перевозок и выполнения других задач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7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225360"/>
            <a:ext cx="822960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entury Gothic"/>
              </a:rPr>
              <a:t>ВВС и войска ПВО включают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виацию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нитные ракетные войск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адиотехнические войск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оинские части специальных войск (связи, РЭБ, РХБ защиты, навигационно-топографические)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ехнического и тылового (медицинского, инженерно-аэродромного) обеспеч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9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835200"/>
            <a:ext cx="8483400" cy="52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АВИ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овременная военная авиа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— реактивная, сверхзвуковая, ракетоносная, всепогодна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иация ВВС и войск ПВО подразделяется на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рода авиации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требительн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турмов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спилотн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ую,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иацию непосредственной авиационной поддерж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000" y="1052280"/>
            <a:ext cx="84834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ЗЕНИТНЫЕ РАКЕТНЫЕ ВОЙСКА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гневая сила в системе противовоздушной обороны, предназначенная для защиты административно-политических центров, промышленно-экономических районов страны, группировок Вооруженных Сил, важных военных и других объектов от ударов авиации и беспилотных средств противника с воздух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20520"/>
            <a:ext cx="8627760" cy="65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РАДИОТЕХНИЧЕСКИЕ ВОЙСКА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од войск ВВС и войск ПВО, основной источник информации о воздушных целях противника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для ведения радиолокационной разведки и выдачи информации о начале воздушного нападения, боевой информации для зенитных ракетных войск, истребительной авиации и информации для боевого управления соединениями, воинскими частями и подразделениями, контроля за перелетами (полетами) своей авиации, соблюдением правил использования воздушного пространства, а также для засечки ядерных взрывов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39480" y="847440"/>
            <a:ext cx="862812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СИЛЫ СПЕЦИАЛЬНЫХ ОПЕРАЦИЙ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 войск Вооруженных Сил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ля выполнения разведывательных, специальных и организационных задач как на временно захваченной противником, так и на своей территории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менее важная задача сил специальных операций —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нтитеррористическая и контрдиверсионная борьб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476280"/>
            <a:ext cx="8627760" cy="596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3600" spc="-1" strike="noStrike" u="sng">
                <a:solidFill>
                  <a:srgbClr val="00b0f0"/>
                </a:solidFill>
                <a:uFillTx/>
                <a:latin typeface="Arial"/>
                <a:ea typeface="Arial"/>
              </a:rPr>
              <a:t>К силам специальных операций ВС относятся: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командование с подразделениями связи и обслуживания,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десантно-штурмовая и воздушно-десантная бригады,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ие и воинские части специального назначения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4" descr="Знак"/>
          <p:cNvPicPr/>
          <p:nvPr/>
        </p:nvPicPr>
        <p:blipFill>
          <a:blip r:embed="rId1"/>
          <a:stretch/>
        </p:blipFill>
        <p:spPr>
          <a:xfrm>
            <a:off x="250920" y="493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9480" y="441360"/>
            <a:ext cx="862812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ОЙСКА СВЯЗИ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вляясь специальными войсками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ля развертывания и эксплуатации системы связи, обеспечения управления Вооруженными Силами в их повседневной и оперативной (боевой) деятельности всех видов. Также на войска связи возлагаются задачи по взаимодействию с силами электросвязи государства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39480" y="225360"/>
            <a:ext cx="86281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entury Gothic"/>
              </a:rPr>
              <a:t>ВОЙСКА РХБ ЗАЩИТ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ециальные войска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едназначенны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для выполнения задач РХБ защиты боевых действ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овременные войска РХБ защиты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стоя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из воинских частей и подразделений, силами и средствами которых выполняются задачи РХБ разведки, специальной обработки вооружения, военной и специальной техники, обмундирования, других материальных средств, а также дегазация и дезактивация мест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них входят также подразделения, предназначенные для снижения заметности войск и объектов, применения огнеметно-зажигательных средст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39480" y="447480"/>
            <a:ext cx="862812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НЖЕНЕРНЫЕ ВОЙСК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войск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ля выполнения задач инженерного обеспечения военных действий (операций и боевых действий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ключ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себя соединения (воинские части, подразделения) инженерной разведки, инженерно-саперные, заграждений, разграждения, понтонно-мостовые, переправочно-десантные, дорожно-мостостроительные, инженерно-дорожные, инженерно-позиционные, инженерно-технические, инженерно-маскировочные, оборудования пунктов управления, полевого водоснабжения, инженерно-ремонтные, а также инженерные склады, склады (базы) инженерных боеприпасов и друг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395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ооруженные Силы Республики Беларус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— основа военной организации государств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Состав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ые органы военного управления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ы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а войск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войска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оружение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ыл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енные учебные заведения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енные комиссариаты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и Министерства оборон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9480" y="317520"/>
            <a:ext cx="8628120" cy="60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entury Gothic"/>
              </a:rPr>
              <a:t>ТРАНСПОРТНЫЕ ВОЙСК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пециальные войска,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редназначенны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для транспортного обеспечения Вооруженных Сил Республики Беларусь, других войск и воинских формирований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а них возложены таки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задачи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как техническое прикрытие, восстановление, повышение живучести и пропускной способности железных и автомобильных дорог в районах ведения боевых действий, обеспечение воинских перевозок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39480" y="581400"/>
            <a:ext cx="8628120" cy="54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ВООРУЖЕНИЕ ВООРУЖЕННЫХ СИЛ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руктурный элемент Вооруженных Сил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едназначенный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для технического обеспечения в целом и по видам технического обеспечения (ракетно-техническое, артиллерийско-техническое, танкотехническое, автотехническое, инженерно-авиационное, инженерно-техническое обеспечение; техническое обеспечение РХБ защиты, техническое обеспечение связи и комплексов средств автоматизации; техническое обеспечение по службам тыла; метрологическое обеспечение) Вооруженных Сил и территориальных войс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9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39480" y="471240"/>
            <a:ext cx="862812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ТЫЛ ВООРУЖЕННЫХ СИЛ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й элемент Вооруженных Сил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ля создания и содержания запасов материальных средств, организации их подвоза и осуществления воинских перевозок, оказания медицинской помощи раненым и больным, организации питания, банно-прачечного обслуживания, обеспечения вещевым имуществом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4000" y="141120"/>
            <a:ext cx="8627760" cy="670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УЧЕБНЫЕ ЗАВЕДЕНИЯ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СПУБЛИКИ БЕЛАРУСЬ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ализующие образовательные программы высшего образования по специальностям для Вооруженных Сил, в настоящее время представлен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Arial"/>
              </a:rPr>
              <a:t>учреждением образования «Военная академия Республики Беларусь» и семью военными факультетами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в ведущих учреждениях высшего образования: Белорусском государственном университете, Белорусском национальном техническом университете, учреждениях образования «Белорусский государственный университет информатики и радиоэлектроники», «Белорусский государственный медицинский университет», «Белорусский государственный университет транспорта», «Гродненский государственный университет имени Янки Купалы», «Белорусская государственная академия авиации»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495000"/>
            <a:ext cx="862776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ОЕННЫЕ КОМИССАРИАТЫ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вляются местными органами военного управл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задач по территориальной обороне Республики Беларусь создаются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ТЕРРИТОРИАЛЬНЫЕ ВОЙС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которые явятся резервным компонентом Вооруженных Сил и будут развертываться в угрожаемый период или с началом войны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1360440"/>
            <a:ext cx="84646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ВИДЫ ВООРУЖЕННЫХ СИЛ: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ухопутные войска;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оенно-воздушные силы и войска противовоздушной обороны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6" name="Содержимое 5"/>
          <p:cNvGraphicFramePr/>
          <p:nvPr/>
        </p:nvGraphicFramePr>
        <p:xfrm>
          <a:off x="843120" y="1830240"/>
          <a:ext cx="673416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830240"/>
                    <a:ext cx="673416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6"/>
          <p:cNvSpPr/>
          <p:nvPr/>
        </p:nvSpPr>
        <p:spPr>
          <a:xfrm>
            <a:off x="324000" y="24768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УХОПУТНЫЕ ВОЙ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иболее многочисленный вид Вооруженных Сил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назначе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для отражения ударов сил и средств сухопутных группировок противника, нанесения им поражения, удержания занимаемых районов и рубежей, создания условий для разгрома вторгшихся войс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Знак"/>
          <p:cNvPicPr/>
          <p:nvPr/>
        </p:nvPicPr>
        <p:blipFill>
          <a:blip r:embed="rId3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1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1491480"/>
            <a:ext cx="83185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Сухопутные войска включ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а войс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ьные войс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единения и воинские части технического и тылового обеспе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539640" y="1357200"/>
            <a:ext cx="82803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Рода войск: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ированные войс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кетные войска и артиллер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йсковая противовоздушная обор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616680"/>
            <a:ext cx="7929360" cy="60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7030a0"/>
                </a:solidFill>
                <a:uFillTx/>
                <a:latin typeface="Century Gothic"/>
              </a:rPr>
              <a:t>МЕХАНИЗИРОВАННЫЕ ВОЙС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род войск Сухопутных войск, предназначенный для ведения боевых действий по отражению ударов, удержанию занимаемых районов и рубежей, разгрому вторгшихся группировок войск противника на операционных направлениях во взаимодействии с силами и средствами соединений и воинских частей Военно-воздушных сил и войск противовоздушной обороны, родов войск, специальных войск Вооруженных Сил, других войск и воинских формирований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95280" y="1326960"/>
            <a:ext cx="83534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entury Gothic"/>
              </a:rPr>
              <a:t>РАКЕТНЫЕ ВОЙСКА И АРТИЛЛЕР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од войск Сухопутных войск, предназначенный для огневого поражения противника, а также для выполнения специальных задач (задымление объектов, световое обеспечение, дистанционное минирование местности и объектов, ослепление личного состава противника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360080"/>
            <a:ext cx="8569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Century Gothic"/>
              </a:rPr>
              <a:t>ВОЙСКОВАЯ ПРОТИВОВОЗДУШНАЯ ОБОРОНА (ПВО)</a:t>
            </a: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хопутных войск состоит из зенитных ракетных, зенитных ракетно-артиллерийски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 радиотехнических воинских част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 подразделен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Предназначен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для прикрытия группировок войск и важных объектов от ударов противника с воздуха. Организационно входят в состав общевойсковых объединений, соединений и воинских частей, на них возлагается выполнение задач в единой системе противовоздушной обороны страны и Вооруженных Си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8T12:32:29Z</dcterms:modified>
  <cp:revision>513</cp:revision>
  <dc:subject/>
  <dc:title>Заголовок слайда отсутствует</dc:title>
</cp:coreProperties>
</file>