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A13-92E4-4F78-873F-CEEF8A06D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271-156C-4B63-9D42-55764DC92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1A1-5144-4A4F-A416-FCEE946DA0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72B-5A08-43CD-9FEF-6DE7847CC3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D3B-1DB4-49CF-84E9-65B7CA490C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0A15-3BEF-45C8-B47E-D47E07387E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BE3-79EB-45EE-8873-D3285DA2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89A-3555-41F4-B1DB-80A8E57C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97D-DC26-449D-91B4-8EBA8E4E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486-AC3D-465F-B478-55155003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4FE8-9871-47E8-B647-D40B81D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72F0-53D1-4343-987B-F9A35511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4DB-ED47-4EC3-A7B7-AF1CA86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4922-2E50-4CA0-B4A4-36D318AF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D83-F664-4106-9A80-E31F8FC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F5B-C0AF-4515-A974-658C8D9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FC0E-0363-4F04-ADEA-5B2C886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365-26E2-46F3-B85A-01C0FA1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49C-2881-4C3F-8542-D75AC3E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95B8-8843-4723-951C-FFABED5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5B6-F944-484C-B83B-9F0839F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AEED-F386-4773-B48B-78C51A20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1E3-F23F-42FF-BFE7-0315CE97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8F1-DE07-40E7-9817-69737B31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7FD-E310-4044-AB76-4C2C2E1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9F7-4376-45BB-982B-AF45370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BC6-8102-4438-87AF-D25C81E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77E-92C0-4B86-8E90-633CED9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8E4-368A-473B-825E-4FD9467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FCC-620B-4AD8-8750-CFCECB64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C7D9-6814-4FED-A834-4B1D220D909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A2F3-970B-4304-9833-25172DC20A2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347760" y="1487520"/>
            <a:ext cx="860724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280" y="40428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26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яжёлый военно-транспортный вертол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ля обеспечения боевых действий  и перевозки десанта и грузов. Максимальная  скор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95 км/ч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инамический потолок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4600 м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злётная масса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56 000 к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полезная нагрузка 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0 000 кг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Описание: C:\Documents and Settings\Fadzeyeu_V\Рабочий стол\Допризывная подготовка изменение 4 раздела\image-0-02-05-20ff6c4978148974ea34c408c046f19a5e89a62eeadcf545928103bca3fbf413-V.jpg"/>
          <p:cNvPicPr/>
          <p:nvPr/>
        </p:nvPicPr>
        <p:blipFill>
          <a:blip r:embed="rId2"/>
          <a:stretch/>
        </p:blipFill>
        <p:spPr>
          <a:xfrm>
            <a:off x="1692360" y="3070080"/>
            <a:ext cx="597528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3640" y="1916280"/>
            <a:ext cx="8577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entury Gothic"/>
              </a:rPr>
              <a:t>СРЕДСТВА ПРОТИВОВОЗДУШНОЙ ОБОРОНЫ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4920" y="33300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ОСА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боевой и транспортно-заряжающей машин. Он является мобильным, всепогодным средст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поражения самолетов, вертолетов, аэродинамических беспилотных летательных аппаратов в сложной воздушной и помеховой обстановке. Боевая машина  способна вести разведку воздушного противника в движении и с места, обеспечивает обнаружение цели, автономный пуск шести ракет, их хранение и транспортировку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о-заряжающая машина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2 ракет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поражения цели составляет по дально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500 м до 103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25 м до 5 000 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Боевой расче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4" descr="Знак"/>
          <p:cNvPicPr/>
          <p:nvPr/>
        </p:nvPicPr>
        <p:blipFill>
          <a:blip r:embed="rId1"/>
          <a:stretch/>
        </p:blipFill>
        <p:spPr>
          <a:xfrm>
            <a:off x="109440" y="260280"/>
            <a:ext cx="1096920" cy="11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Объект 1"/>
          <p:cNvGraphicFramePr/>
          <p:nvPr/>
        </p:nvGraphicFramePr>
        <p:xfrm>
          <a:off x="395280" y="3429000"/>
          <a:ext cx="495468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429000"/>
                    <a:ext cx="49546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4000" y="189000"/>
            <a:ext cx="8627760" cy="54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БУК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во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ста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меет: командный пункт, станцию обнаружения целей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самоходных огневых установок и 3 пускозаряжающие установки. Все боевые средства комплекса размещены на самоходных гусеничных шасси высокой проходимости. Самоходная огневая установка имеет радиолокационную станцию и обеспечивает обнаружение цели, автономный пус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4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хранение, транспортировку и предстартовый контроль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ускозаряжающая установка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8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них 4 размещаются на балках пускового устройства и готовы к пуску, а остальные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находятся на транспортных ложементах. Зона поражения цели составляет по дально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3000 м до 30 0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−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25 м до 18 000 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6" descr="Самоходная огневая установка зенитного ракетного комплекса «Бук»"/>
          <p:cNvPicPr/>
          <p:nvPr/>
        </p:nvPicPr>
        <p:blipFill>
          <a:blip r:embed="rId2"/>
          <a:stretch/>
        </p:blipFill>
        <p:spPr>
          <a:xfrm>
            <a:off x="304920" y="3970440"/>
            <a:ext cx="514008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000" y="259920"/>
            <a:ext cx="8856720" cy="39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С-30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надёжно прикрыть с воздуха административно-политические и промышленно-экономические районы страны, группировки войск и другие важные объекты. Он имеет несколько модификаций 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может включат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канальную станцию наведения ракет, пусковые установки, пускозаряжающие установки, командный пункт и радиолокационную станцию. Комплекс обладает высокой помехозащищённостью и способен одновременно обстрелива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18 целе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ведением на каждую цел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2−4 ракет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н способен гарантированно поразить баллистические цели на дальностя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40 000 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аэродинамические −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100 000 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ысота поражения баллистических целей составля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25 000 м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аэродинамических 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30 000 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РК С-300 способен уничтожить все современные воздушные цели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1" descr=""/>
          <p:cNvPicPr/>
          <p:nvPr/>
        </p:nvPicPr>
        <p:blipFill>
          <a:blip r:embed="rId2"/>
          <a:stretch/>
        </p:blipFill>
        <p:spPr>
          <a:xfrm>
            <a:off x="1116000" y="4098960"/>
            <a:ext cx="698508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24000" y="196920"/>
            <a:ext cx="8627760" cy="54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ТОР-М2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ля поражения самолетов, вертолетов, аэродинамических беспилотных летательных аппаратов, управляемых ракет и бомб, других элементов высокоточного оружия в сложной воздушной и помеховой обстановке. Боевая машина имеет в своем составе современную радиолокационную станцию и обеспечивает обнаружение цели, автономный пус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8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хранение, транспортировку и предстартовый контроль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поражения цели составляет по даль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000 м до 120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0 м до 10 000 м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евая машина способна одновременно вести стрельбу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 4 воздушным целя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евой расче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ловек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8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Описание: ТОР-М2"/>
          <p:cNvPicPr/>
          <p:nvPr/>
        </p:nvPicPr>
        <p:blipFill>
          <a:blip r:embed="rId2"/>
          <a:srcRect l="18283" t="10386" r="20320" b="4567"/>
          <a:stretch/>
        </p:blipFill>
        <p:spPr>
          <a:xfrm>
            <a:off x="324000" y="3233880"/>
            <a:ext cx="43923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62864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САМОЛЁТЫ 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ВЕРТОЛЁТЫ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8864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Г-29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ёгкий фронтовой истребитель авиации ВВС и войск ПВО РБ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реб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то боевой самолет, предназначенный для уничтожения пилотируемых и беспилотных летательных аппаратов в воздухе. Может также применяться для поражения наземных (морских) объектов и ведения воздушной разведки. Основным видом боевых действий истребителя является воздушный бой, борьба за завоевание господства в воздух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ребители оснащаются комплексами поиска и уничтожения воздушных целей, имеют на вооруж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яемые ракеты, встроенную пушку и ракетно-бомбовое вооруже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4" descr="Знак"/>
          <p:cNvPicPr/>
          <p:nvPr/>
        </p:nvPicPr>
        <p:blipFill>
          <a:blip r:embed="rId1"/>
          <a:stretch/>
        </p:blipFill>
        <p:spPr>
          <a:xfrm>
            <a:off x="324000" y="11592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Описание: C:\Documents and Settings\Fadzeyeu_V\Рабочий стол\Допризывная подготовка изменение 4 раздела\mig296.jpg"/>
          <p:cNvPicPr/>
          <p:nvPr/>
        </p:nvPicPr>
        <p:blipFill>
          <a:blip r:embed="rId2"/>
          <a:stretch/>
        </p:blipFill>
        <p:spPr>
          <a:xfrm>
            <a:off x="324000" y="3429000"/>
            <a:ext cx="44701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9840" y="259920"/>
            <a:ext cx="8464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У-25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турмовик, ударный самолёт авиации ВВС и войск ПВО РБ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высотный боевой самолет для  поражения малоразмерных и подвижных наземных (морских) целей, а также живой силы противника на поле боя и в ближних тылах  с применение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омбардировочного, ракет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в том числе управляемого)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трелкового вооруже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мещаемого на десяти точках подвески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т двуствольную встроенную пушку калибр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0 мм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личительная особенность этого самолета − бронирование для защиты экипажа и наиболее важных частей самолета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4" descr="Знак"/>
          <p:cNvPicPr/>
          <p:nvPr/>
        </p:nvPicPr>
        <p:blipFill>
          <a:blip r:embed="rId1"/>
          <a:stretch/>
        </p:blipFill>
        <p:spPr>
          <a:xfrm>
            <a:off x="324000" y="152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4" descr="Описание: C:\Documents and Settings\Fadzeyeu_V\Рабочий стол\Допризывная подготовка изменение 4 раздела\image-0-02-05-d797737cdfe817f4529c2f20e3bff8225560527783f60c5458a3c4c1bddb48eb-V.jpg"/>
          <p:cNvPicPr/>
          <p:nvPr/>
        </p:nvPicPr>
        <p:blipFill>
          <a:blip r:embed="rId2"/>
          <a:stretch/>
        </p:blipFill>
        <p:spPr>
          <a:xfrm>
            <a:off x="395280" y="3382920"/>
            <a:ext cx="502272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24000" y="562320"/>
            <a:ext cx="85690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АН-26                             ИЛ-7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лёгкий военно-                                  (средний военно-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нспортный самолёт)              транспортный самолё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дназначе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ля выброски (высадки) воздушных десантов и осуществления воздушных перевозок войск, боевой техники, вооружения, боеприпасов, горючего, продовольствия и других материальных средств, эвакуации раненых и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Знак"/>
          <p:cNvPicPr/>
          <p:nvPr/>
        </p:nvPicPr>
        <p:blipFill>
          <a:blip r:embed="rId1"/>
          <a:stretch/>
        </p:blipFill>
        <p:spPr>
          <a:xfrm>
            <a:off x="179280" y="18900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Описание: C:\Documents and Settings\Fadzeyeu_V\Рабочий стол\Допризывная подготовка изменение 4 раздела\image-0-02-05-271b6c0604fd0c6a21b8946a9d59bb3c884d0e99b5152010d3eea37fdaa3d874-V.jpg"/>
          <p:cNvPicPr/>
          <p:nvPr/>
        </p:nvPicPr>
        <p:blipFill>
          <a:blip r:embed="rId2"/>
          <a:stretch/>
        </p:blipFill>
        <p:spPr>
          <a:xfrm>
            <a:off x="449280" y="2060640"/>
            <a:ext cx="3940200" cy="2624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Описание: C:\Documents and Settings\Fadzeyeu_V\Рабочий стол\Допризывная подготовка изменение 4 раздела\image-0-02-05-41f9add13d4069b571e554bb1be1bdcc20f58f43dd63130d4c4a842156fc7b2e-V.jpg"/>
          <p:cNvPicPr/>
          <p:nvPr/>
        </p:nvPicPr>
        <p:blipFill>
          <a:blip r:embed="rId3"/>
          <a:stretch/>
        </p:blipFill>
        <p:spPr>
          <a:xfrm>
            <a:off x="4643280" y="2060640"/>
            <a:ext cx="410400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5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95280" y="308880"/>
            <a:ext cx="842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ЯК-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ухместный учебно-боевой 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назна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обучения и тренировки летного состава взлету, посадке, пилотированию и воздушной навигации днем и ночью в простых и сложных метеоусловиях, сложным видам маневрирования во всем эксплуатационном диапазоне высот и скоростей, включая предельные режимы, освоения системы вооружения самолета, обучения и отработки боевого применения при действии по наземным и воздушным целям с использованием авиационных средств по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2" descr="Описание: http://www.irkut.com/upload/information_system_15/1/8/4/item_1843/information_items_1843.jpg"/>
          <p:cNvPicPr/>
          <p:nvPr/>
        </p:nvPicPr>
        <p:blipFill>
          <a:blip r:embed="rId2"/>
          <a:stretch/>
        </p:blipFill>
        <p:spPr>
          <a:xfrm>
            <a:off x="2484360" y="3697200"/>
            <a:ext cx="534528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68360" y="333360"/>
            <a:ext cx="8280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Л-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й 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назнач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 обучения  курсантов полётам на реактивном самолёте днём и ночью в простых и сложных метеоусловиях, обучения элементам боевого применения, связанным с перехватом воздушных целей визуально, действиям по наземным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3" descr="Описание: C:\Documents and Settings\Fadzeyeu_V\Рабочий стол\Допризывная подготовка изменение 4 раздела\l394.JPG"/>
          <p:cNvPicPr/>
          <p:nvPr/>
        </p:nvPicPr>
        <p:blipFill>
          <a:blip r:embed="rId2"/>
          <a:stretch/>
        </p:blipFill>
        <p:spPr>
          <a:xfrm>
            <a:off x="3390840" y="3500280"/>
            <a:ext cx="5400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542880"/>
            <a:ext cx="8569080" cy="57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24П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нтокрылая «боевая машина пехоты», вертолёт огневой поддержки, истребитель танков. На Западе Ми-24 окрест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«летающим танком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вертолёте применено бронирование всех жизненно важных узлов. Экипаж Ми-24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а (лётчик, лётчик-оператор, борттехник), а десант может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о 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 в полной экипировке. Максимальная скорость вер­толёта −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35 км/ч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ысота прямолинейного полёта достиг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4500 м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толёт вооружён двуствольн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0-мм пушк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вертолёте могут быть размеще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о 8 ПТУР, до 4-х блоков неуправляемых ракет, бом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другое вооружение и оборудование в подвесных контейнерах. Максимальная взлётная масса 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1 500 кг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Описание: Картинки по запросу боевые применение вертолеты фото"/>
          <p:cNvPicPr/>
          <p:nvPr/>
        </p:nvPicPr>
        <p:blipFill>
          <a:blip r:embed="rId2"/>
          <a:stretch/>
        </p:blipFill>
        <p:spPr>
          <a:xfrm>
            <a:off x="135000" y="3573360"/>
            <a:ext cx="5256000" cy="26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4000" y="47592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8МТВ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о-боевой вертол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ля ведения боевых действий  и перевозки десанта и грузов. Максимальная скор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0 км/ч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ический потоло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олее 5000 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аксимальный взлётный вес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3 000 к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толёт вооружен блоками 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управ­ляемыми ракетами, бомб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другим подвесным вооружение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Описание: Фотогалерея - Совместное миротворческое учение ОДКБ &quot;Нерушим…"/>
          <p:cNvPicPr/>
          <p:nvPr/>
        </p:nvPicPr>
        <p:blipFill>
          <a:blip r:embed="rId2"/>
          <a:stretch/>
        </p:blipFill>
        <p:spPr>
          <a:xfrm>
            <a:off x="1979640" y="3408480"/>
            <a:ext cx="5184720" cy="326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1T09:47:40Z</dcterms:modified>
  <cp:revision>533</cp:revision>
  <dc:subject/>
  <dc:title>Заголовок слайда отсутствует</dc:title>
</cp:coreProperties>
</file>